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4C77-A4C8-4F46-AEE3-A586891E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D510-C88A-41B3-A0F4-2B18795B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EE75-F3FD-493C-9625-71CE7B4EC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17B4-9081-4A0F-8682-FC8190FC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A53A-4975-44AD-ACFF-9DB57C5E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B68A-6603-4C9F-A940-2A801DDE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F63B-81DF-4759-9F6E-C60847D2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FA5E-C185-43C8-82CF-52FF9C0F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937C-7F9C-44B7-A21F-D0830A05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E171-D5B3-4152-9E66-3A41A1A1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CD3F-7024-4E2B-8787-FC198C06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95E5-B24C-4877-A184-608C0DAC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3FF6-F108-4C4D-A0E4-4FBD1B4E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21EA-88EC-4A4E-A574-6FA927A6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C650-7033-449A-92BD-A82DA636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2737-124A-4524-9CDA-8FE275F0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45A5-E3B0-4DA1-B391-90C3AAF4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75A4-DE8F-49EA-8A01-6B0C8044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8DE3-5F25-4842-9447-3AB5C2B9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0514-3DBD-4D63-BC4F-24FA3C6E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8DF5-F244-4BE3-873D-AF835297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78BC-F486-41C7-9E3D-504A5939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58CC-7253-4384-A6C4-857C398B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ED40-2D54-4CF0-8FA2-612F9850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7543-31C9-4EAA-A81A-EF1EB13009E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5094-4658-45FE-8C68-AE0461A0B0C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b200"/>
                </a:solidFill>
                <a:latin typeface="Comic Sans MS"/>
              </a:rPr>
              <a:t>Система счислени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Как люди научились считать</a:t>
            </a:r>
            <a:br>
              <a:rPr sz="4000"/>
            </a:b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23520" y="5638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оклад подготовили : ученицы 6а класса Смирнова Мария Павловна, Фёдорова Ольга Алексеевна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читель: Пашкова Наталия Николаевн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657600" y="3352680"/>
            <a:ext cx="1619280" cy="17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0" y="1873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ервые 12 чисел записываются в римских цифрах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, II, III, IV, V, VI, VII, VIII. IX, X, XI, X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ругие же числа записываются, например, к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XVIII = 28; ХХХIХ = 39; CCCXCVII = 397; MDCCCXVIII = 181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аноническим примером фактически непозиционной системы счисления является римская, в которой в качестве цифр используются латинские букв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- 1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 - 5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- 10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 - 50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 - 100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- 500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- 1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1409760" y="83808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имская система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648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реческая система счисл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99072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реческая система счисления, также известная как ионийская или новогреческая — непозиционная система счисления, в которой, в качестве символов для счёта, употребляют греческие буквы, а также дополнительные символы, такие как ς (стигма), Ϙ (копа) и Ϡ (сампи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Эта система пришла на смену аттической, или старогреческой, системе, которая господствовала в Греции в III веке до н.э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обходимость сохранять порядок букв ради сохранения их числовых значений привела к относительно ранней (4 век до н.э.) стабилизации греческого алфавит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 α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0 ι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00 ρ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2 β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20 κ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200 σ   Данные числа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озволяют записать числ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3 γ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30 λ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300 τ    лишь от 1 до 999, например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4 δ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40 μ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400 υ    45 — μ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5 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50 ν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500 φ    632 — χλβ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6 ς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60 ξ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600 χ    970 — Ϡο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7 ζ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70 ο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700 ψ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8 η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80 π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800 ω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9 θ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90 Ϙ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900 Ϡ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486400" y="4191120"/>
            <a:ext cx="2590920" cy="163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лфавитные системы счисл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Более совершенными непозиционными системами счисления были алфавитные системы. К числу таких систем счисления относились греческая, славянская, финикийская и другие. В них числа от 1 до 9, целые количества десятков (от 10 до 90) и целые количества сотен (от 100 до 900) обозначались буквами алфавита. В алфавитной системе счисления Древней Греции числа 1, 2, ..., 9 обозначались первыми девятью буквами греческого алфавита, и т.д. Для обозначения чисел 10, 20, ..., 90 применялись следующие 9 букв а для обозначения чисел 100, 200, ..., 900 – последние 9 букв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У славянских народов числовые значения букв установились в порядке славянского алфавита, который использовал сначала глаголицу, а затем кириллицу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В России славянская нумерация сохранилась до конца XVII века. При Петре I возобладала так называемая арабская нумерация, которой мы пользуемся и сейчас. Славянская нумерация сохранилась только в богослужебных книгах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8120" y="4952880"/>
            <a:ext cx="38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есятичная система счисл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ля мультипликативной системы нужно знать изображение цифр и их значение, а так же основание системы счисления. Определить основание очень легко, нужно только пересчитать количество значащих цифр в системе. Если проще, то это число, с которого начинается второй разряд у числа. Мы, например, используем цифры 0, 1, 2, 3, 4, 5, 6, 7, 8, 9. Их ровно 10, поэтому основание нашей системы счисления тоже 10, и система счисления называется “десятичная”. В вышеприведенном примере используются цифры 0, 1, 2, 3, 4, 5, 6, 7, 8, 9 (вспомогательные 10, 100, 1000, 10000 и т. д. не в счет). Основных цифр здесь тоже 10, и система счисления – десятична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495680" y="5029200"/>
            <a:ext cx="30387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лавянская система счисл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762120" y="1981080"/>
            <a:ext cx="6933960" cy="3273480"/>
            <a:chOff x="762120" y="1981080"/>
            <a:chExt cx="6933960" cy="3273480"/>
          </a:xfrm>
        </p:grpSpPr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762120" y="1981080"/>
              <a:ext cx="6933960" cy="32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 txBox="1"/>
            <p:nvPr/>
          </p:nvSpPr>
          <p:spPr>
            <a:xfrm>
              <a:off x="762120" y="1981080"/>
              <a:ext cx="6933960" cy="327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Древние системы счисления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Что осталось от древних систем счисления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имский цифры до сих пор используются в некоторых случаях, например, на циферблате часов или в книгах для нумерации глав и страниц вступлен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ревние вавилоняне считали продолжительность года равной 360 суткам, что естественно связано с числом 60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статки шестидесятеричной системы счисления мы находим, в сохранившемся до наших дней, обыкновении делить час на 60 минут, а минуту на 60 секунд и  градус на 60 минут .  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76720" y="4191120"/>
          <a:ext cx="47242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191120"/>
                    <a:ext cx="47242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Что осталось от древних систем счисления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о тридцатых годов ХХ в. широкое распространение имели элементы 12-чной системы счисления в Европе (еще в XIXв. в России был в обиходе денежный знак “империал” с номинальной стоимостью 36 рублей и в Англии фунт равнялся 12 шиллингам, а шиллинг – 12 пенсам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124080" y="4572000"/>
            <a:ext cx="27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250" autoRev="1" fill="hold"/>
                                        <p:tgtEl>
                                          <p:spTgt spid="2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9144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южина достаточно прочно вошла в нашу жизнь: в сутках две дюжины часов, где час делится на пять дюжин минут, круг содержит тридцать дюжин градусов, фут делится на двенадцать дюймов. Влияние 12-чной системы счисления ощущается сегодня хотя бы в том, что карандашей или фломастеров в наборе обычно бывает 6, 12, 24 и т.д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ередко и мы сталкиваемся в быту с двенадцатеричной системой счисления: чайные и столовые сервизы на 12 персон, комплект платков - 12 шту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оанализировав счет в различных иностранных языках, мы обнаружили, что в большинстве случаев используется десятеричная система счисления (русский, немецкий, испанский, польский, болгарский и др.), но присутствуют также и другие: двенадцатеричная – английский язык и двадцатеричная – французский язы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Что осталось от древних систем счисления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5060880"/>
            <a:ext cx="1981080" cy="179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Система счисления – это способы записи чисел в виде, удобном для прочтения и выполнения арифметических операций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Рассматривая археологические находки эпохи палеолита (камни, кости животных), можно заметить, что люди стремились группировать точки, полосы и насечки по 3, 4, 5 или 7.Такя группировка облегчала счет .В древности чаще всего считали на пальцах . И поэтому предметы стали группировать по 5 или по 1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62720" y="388620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33520" y="1066680"/>
            <a:ext cx="7695360" cy="3656520"/>
            <a:chOff x="533520" y="1066680"/>
            <a:chExt cx="7695360" cy="3656520"/>
          </a:xfrm>
        </p:grpSpPr>
        <p:cxnSp>
          <p:nvCxnSpPr>
            <p:cNvPr id="158" name="_s93206"/>
            <p:cNvCxnSpPr>
              <a:stCxn id="159" idx="0"/>
              <a:endCxn id="160" idx="2"/>
            </p:cNvCxnSpPr>
            <p:nvPr/>
          </p:nvCxnSpPr>
          <p:spPr>
            <a:xfrm flipV="1" rot="16200000">
              <a:off x="5066280" y="1859040"/>
              <a:ext cx="700920" cy="2071800"/>
            </a:xfrm>
            <a:prstGeom prst="bentConnector3">
              <a:avLst>
                <a:gd name="adj1" fmla="val 16289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61" name="_s93205"/>
            <p:cNvCxnSpPr>
              <a:stCxn id="162" idx="0"/>
              <a:endCxn id="160" idx="2"/>
            </p:cNvCxnSpPr>
            <p:nvPr/>
          </p:nvCxnSpPr>
          <p:spPr>
            <a:xfrm flipH="1" flipV="1" rot="5400000">
              <a:off x="2995200" y="1858680"/>
              <a:ext cx="700920" cy="2072520"/>
            </a:xfrm>
            <a:prstGeom prst="bentConnector3">
              <a:avLst>
                <a:gd name="adj1" fmla="val 16289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60" name="_s93200"/>
            <p:cNvSpPr/>
            <p:nvPr/>
          </p:nvSpPr>
          <p:spPr>
            <a:xfrm>
              <a:off x="2605680" y="1066680"/>
              <a:ext cx="3551760" cy="146268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Comic Sans MS"/>
                </a:rPr>
                <a:t>Виды систем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Comic Sans MS"/>
                </a:rPr>
                <a:t>счисления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93202"/>
            <p:cNvSpPr/>
            <p:nvPr/>
          </p:nvSpPr>
          <p:spPr>
            <a:xfrm>
              <a:off x="533520" y="3260520"/>
              <a:ext cx="3551760" cy="14626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Comic Sans MS"/>
                </a:rPr>
                <a:t>Непозиционные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Comic Sans MS"/>
                </a:rPr>
                <a:t>системы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Comic Sans MS"/>
                </a:rPr>
                <a:t>счисления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93203"/>
            <p:cNvSpPr/>
            <p:nvPr/>
          </p:nvSpPr>
          <p:spPr>
            <a:xfrm>
              <a:off x="4677120" y="3260520"/>
              <a:ext cx="3551760" cy="14626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Comic Sans MS"/>
                </a:rPr>
                <a:t>Позиционные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Comic Sans MS"/>
                </a:rPr>
                <a:t>системы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Comic Sans MS"/>
                </a:rPr>
                <a:t>счисления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зиционные системы счисл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озиционных системах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счислени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количественное значение цифры зависит от ее позиции в числ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зиция цифры в числе называется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разрядом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ждая позиционная сс имеет определенный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алфавит цифр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основани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162920" y="4191120"/>
            <a:ext cx="981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епозиционные системы счисл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6934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непозиционных системах счисления величина, которую обозначает цифра, не зависит от положения в числе. При этом система может накладывать ограничения на положение цифр, например, чтобы они были расположены в порядке убыва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00200" y="3809880"/>
            <a:ext cx="5029200" cy="277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чёт у первобытных народ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191120" cy="365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90120" y="239400"/>
            <a:ext cx="664236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1143000"/>
            <a:ext cx="6705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звитие понятия числа – появления нуля и отрицательных чисел, обыкновенных и десятичных дробей, способы записи  чисел (цифры, обозначения системы счисления) – всё это имеет богатую и интересную истор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934320" y="5095800"/>
            <a:ext cx="1733400" cy="1762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96080" cy="43610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576080" y="685800"/>
            <a:ext cx="567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Цифры и даты в разных язы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905120"/>
            <a:ext cx="7483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ревние римляне пользовались нумерацией, сохраняющейся до настоящего времени под именем "римской нумерации", в которой числа изображаются буквами латинского алфавита. Сейчас ею, строф в стихотворениях и т.д. В позднейшем своем виде пользуются для обозначения юбилейных дат, нумерации некоторых страниц книги (например, страниц предисловия), глав в книгах римские цифры выглядят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43320" y="4191120"/>
            <a:ext cx="58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= 1; V = 5; X = 10; L = 50; С = 100; D = 500; M = 1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07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T</cp:lastModifiedBy>
  <dcterms:modified xsi:type="dcterms:W3CDTF">2010-01-25T11:53:4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